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8557C97-324C-46C4-90B0-33316A6AEF4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A1A9E1-B8B0-4D99-B799-85795C6A9A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7CB2C57-9629-4E3B-BCF8-6963B74A475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EC7707-8952-43C4-88AE-847416B11E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0A0599-8F65-4527-AADE-4632C3B245F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107FED7-44C8-49C4-9166-D3A7241C5F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173FB8-BF9A-4C78-9467-ED461F883C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620ADA-8B60-475A-8AEA-7806E6E4A1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A1D614-9E59-4232-B688-832918555E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D130CF-5091-49D0-9226-E0D85F5DDC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E8DB634-3CDF-462F-BD45-CA6F005A9F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37B4E40-3617-4279-9800-70C2EA7D8C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3CEF12-1037-4832-9331-2DAEDC04832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8BA3EA-8964-4182-8797-0F0ABE0DA0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645A461-EBC8-41FD-B7A2-BA64AB000AB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D0501F-1C9B-427D-9683-A0737326AF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90B829-78D4-45A1-A478-DC88456C78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21CB878-739D-46DA-A377-5C7286B3822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B79A44A-6078-4F0E-8018-CDD8C13FA03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AD098A-6344-4DBE-A692-3F7C754196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79CE81-D568-4741-B0EB-C5C386E19D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3523D63-3860-409C-9C99-CAC958BF5D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31B45E-2769-4F2A-89BA-755CCA5862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ED2AEF-F1F9-4F6E-807A-49CC0ED6AE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2CECF0-73D4-43F0-9530-DB906A52B2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D2A03C-53B8-44A4-9380-6B16EFEA01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4913-30C7-495B-B545-E8A26D1C0733}"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272FD-4AE1-43D5-82E2-3C4EA2D6229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467BF3-F2F8-4F83-9C1E-EE501D1B0E0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3D795D2-A3B9-4555-A440-BC29335D377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0A33BE4-F6A3-47F8-A47E-535533514541}"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90A4F1-B483-45AD-BDE3-3E11C33C557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65E992-E68E-4107-ADEA-D9371407F71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F6F8ED-7BE2-4634-AB0F-322F81F482DA}"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10CDE1-05D1-4D7E-BB3E-8395A0DB3AD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DF91579-8044-45EB-9342-B5593FCF2BB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F45EE8-584F-4090-AAAD-AB16C194EB7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25BBA41-3D1F-4672-8577-7689377156B8}"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DCD1C8-5530-49C2-A637-6492C696F2B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E19BBD-FAD1-4CE1-8161-8754EF51C4D5}"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E6611D-92C2-400F-8AB5-29D836FEEA0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4C2CDF-C8EB-46D1-AA03-4DB803E24245}"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700F82-D7BF-4D0C-B221-3A0F7E0280BC}"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19E6885-8CB3-413E-9AD4-CDC49DAEDC8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0D3726-E9F0-478F-9C57-2D76ECF26268}"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58DBBA-AAA6-49F7-A3E8-8C440A5764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3DC4B9E-7A72-4235-9D59-A04A88728D1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C49BDCF-C909-4EC4-ABE3-D372C044538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E46F25-DC26-46C4-8402-0A762A5670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138CE1-FCFB-4F21-9B96-3E1CD07FFB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BA1E92-E367-4508-9673-44B5374FC49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92BC422-F23E-47B1-85E7-B9688551F4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38345C6-2C19-407E-BE4C-EEC35ED7D9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7746E2-0D2C-40C4-9141-B27FBCA0C5D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4586027-F30F-4103-9717-9E602DC6B97A}"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1F2A09-3DFE-4F53-A51B-F990AC2D6B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AC93BC-E114-4FF8-A2A9-EBE4745A11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94F535-52FE-40F2-B20B-FC4A398892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0B1B17-B8EF-41FC-B7E0-52353D742335}"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907B50-8CDB-4B3E-AB9E-BE727AFFDA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318F43-C006-4445-8697-E3D6FBDCDA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A9C5A2-ED06-49D9-AFD9-67D45B443032}"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D65CDD-3DAB-4089-B0C6-3DF21AEB82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EF80BD-21AA-47E2-84FB-FE42A77879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598767-EFFB-4A31-97A0-E708D0582E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79E112-B351-4F31-A62E-02627837FD9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7ED3ED-09DC-46DE-BC68-8E0A21DE1412}"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E9FD5F-5A60-431D-8D07-2B9619897B4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9F76B7-2A39-49B8-807C-DAD8C50912A1}"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DA13FD-015F-40B4-A6E7-BF675243598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74DC636-84A2-4652-9978-6091FBCD667C}"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C2854BD-A88E-41AC-B218-BFD1317FFB2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E0FD35B-3488-42F0-BB64-32FF1D7F359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EDF88FB-5D8E-4F5F-828F-3633A343D926}"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FF97E4-63EB-4D43-A3E4-13D6D7053EEA}"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9FD219B-4C00-432D-97B2-33CBECBD278F}"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7E94DB-9508-47A5-B15D-C015CD30FCC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1BB9DC-02D2-4A74-B2C4-36619675036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D0AA72-08DF-48D3-81B6-8A72B239412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913FCC6-F9D7-48AD-A15D-8239D16B5FDC}"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C830F7-FADF-4667-BE1D-E9A9C766CC30}"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989203-B8D3-4395-B666-87CBC09F41F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F76D7E-0081-43E5-B6EC-8C0B115F20C9}"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AEDEA9-01ED-4C17-9CBC-00DFF263F76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393E8C-2354-4D7E-877B-A20969BA4B4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454BE6-750E-4149-A026-9CDA3D65F5D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AFDB0D-9689-4236-9977-92A353F841A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3F0979-FF8F-420E-B9BA-EC8B57674081}"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1E0822-BB06-4ED7-A79C-7FFCF05FA08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697A89-2068-47EA-8C82-95FDE054D5E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F3622A-1858-451E-8F0A-C5D661BBC4E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821417-7029-4A85-A0F4-A8130A5A66D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F92D76A-5DC4-46FA-8579-B9C9DC32F16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715F53-154E-46FC-873B-C827B5042C6E}"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461D72-6E66-41CF-8F6E-DF277CF5CA1A}"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7CE144-CD2B-45FF-901C-B30A0D54A57D}"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DE407E-8C17-478B-B6F4-3C1C68C32767}"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FBD714-6894-46C3-BB6E-C9CB5D2CE94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B16C588-FDB7-4B84-B5BB-A770603C45B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7D87EF7-0E0B-4B78-B382-F26E1316DEA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F69EEB-78DB-48D7-AD48-EDB8CBE3B7D1}"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E413019-A958-4B1F-A9BF-6F9953AE4C78}"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9474B33-EA11-4C56-89F2-127717BDEA0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736D5C-23BC-4B1E-AC5E-1EF2E4130E1F}"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51439-3BC6-446B-94F9-DAE01846E26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A73264-91F5-4807-A671-2FE1D30B76BD}"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44DF52C-37B5-4E07-909B-E0804A1C22FC}"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50238B8-10A0-4DA3-BF5E-BC097AB2414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51D8E9-C788-440C-B578-04AB68E13FE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5894EC-4F1D-4E9D-80EB-6BCA272AD990}"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0BF123-4806-4FDD-9202-EF6CA2C3359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955F2E-BD76-4B1A-B0C0-224846ACE1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FFB985-0ED9-4BF9-BBFC-6D563E126F9E}"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B16F81-2C4A-4EEA-B823-B8CF37FBC864}"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C5AFEF-88EA-42DF-AB9D-196F519FC4D7}"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6AEFC5-9998-42DE-9A4A-4D06D5B000F2}"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23AD91-ECDC-4364-BE32-AF93F4E610F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FF5E26-0A39-4B24-8F0B-0D5DA4266E3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00D631C-5411-4D70-8C8B-ADAD80D06E72}"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56776E-DD1D-49C3-B8F9-0E5C0EAD9549}"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FDD65A-4F4C-45E3-81EA-98C401A1B52A}"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E46E6E-24F8-43CE-A4D0-D6BDE1BACC2A}"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CC0EABDD-B29E-4261-A6EE-AD6D7B318A9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5C4AB18-2180-47E3-88FB-41FF2E7423E0}"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B22C5DA-EBC9-4A3A-B640-7FA8A0978ED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7DE9A6-138A-44AC-9ED9-651A1F9A4009}"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86B060-1810-45F1-A12B-F3C1B1EA236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39C6BC6-F935-4436-8E2C-50B667AE78C0}"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EF2133-20D8-4B6F-8E2D-28F183215F0E}"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BC1B414-D099-48BD-9B76-34B3B0ABBAF6}"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8D43C9-0D5C-40CA-8016-11AE887E6203}"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EFCF34-C492-4FA2-9038-1CB6B4995479}"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4587AA5-FB76-4F11-A169-1A8D5372B6E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5BD4BD-37DF-4335-9C75-3414DE16B401}"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873BC06-BFF3-4033-881B-8F89C95ADF05}"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4863B31-BB11-4C70-9593-E164C6F33CF1}"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4493BC-E19F-4402-8637-8EDF3058684D}"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E31A52C-7561-42F9-986D-D19F30DEE7E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015B42-B855-4B54-B699-50F64DFD33F0}"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8D03DC4-2AD8-472A-9148-F8C4F016F41F}"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