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E2B77-8849-4419-8385-DEB1B91AF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7557E-C62E-4306-AE57-C821F8D40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62F8A-32E1-43D1-BCBB-214AD6BC8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ED1C5-2283-4A67-B973-D05A387C7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F7EA3-6933-4041-8370-3D22E6E44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3E22A-A51F-4536-AE86-3513658F9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35B07-32DE-4739-8939-50EBAB43B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085D1-A0AB-4003-B05D-EAFFA6C33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505320" y="-360"/>
            <a:ext cx="5333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976B7-7414-4156-88C7-E0740E31F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5F90B-BA47-4B3B-A8B4-B3C286FF0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C478D-0EB8-47B3-A2F2-671065D2B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CDE41-C77F-4543-9955-7F7B1F7BB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pt_backgr_04_details_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3C19A-B66C-457D-87A5-1AE248C891D0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pt_backgr_01_welkom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Onderwij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erugblik FP CK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Vooruitblik FP voor Informatic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elium opnemen in ID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Distributie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icenti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anneer openbaar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latform ondersteun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Taal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erator sect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dule syste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rrefutable patterns (~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ass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Onderzoek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ansformatie (A-termen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ooks” voor andere systeme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irectory structuu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terpret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le / direc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Koppeling met Jav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GU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662280" y="228600"/>
            <a:ext cx="5253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Wie doet Wat?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8T08:34:29Z</dcterms:created>
  <dc:creator>Arjan van IJzendoorn</dc:creator>
  <dc:description/>
  <dc:language>en-US</dc:language>
  <cp:lastModifiedBy>Arjan van IJzendoorn</cp:lastModifiedBy>
  <dcterms:modified xsi:type="dcterms:W3CDTF">2002-12-18T08:42:02Z</dcterms:modified>
  <cp:revision>6</cp:revision>
  <dc:subject/>
  <dc:title>Onderwijs</dc:title>
</cp:coreProperties>
</file>