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331"/>
        <c:axId val="70546478"/>
      </c:barChart>
      <c:catAx>
        <c:axId val="1578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46478"/>
        <c:crosses val="autoZero"/>
        <c:auto val="1"/>
        <c:lblAlgn val="ctr"/>
        <c:lblOffset val="100"/>
        <c:noMultiLvlLbl val="0"/>
      </c:catAx>
      <c:valAx>
        <c:axId val="70546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16C-F2A0-4317-8F8B-DD984ED7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400-08FF-4632-AEAA-7D52C08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67B-0F17-4B24-90F6-59870A4E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AFD-BA5A-4D3B-82C5-69E66B67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9B1-839A-4FF2-916E-36FE0C0F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531-44E6-4942-B5D5-187B7DD7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CD3-C250-4C96-A54D-E5DDE5DA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1A60-F078-45CB-A7B3-0668029A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FE1-EEC1-4D0B-91A1-918CDD9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C02-B295-4E2E-99CD-3476A90E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57E-EE67-451A-BC2C-A8A1D6D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107C-8D9A-457D-903F-285CAB7F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20519-E373-4176-AD7F-3110AE4CEE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