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70717"/>
        <c:axId val="6301185"/>
      </c:barChart>
      <c:catAx>
        <c:axId val="17707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1185"/>
        <c:crosses val="autoZero"/>
        <c:auto val="1"/>
        <c:lblAlgn val="ctr"/>
        <c:lblOffset val="100"/>
        <c:noMultiLvlLbl val="0"/>
      </c:catAx>
      <c:valAx>
        <c:axId val="63011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07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EC36-B4A3-4AA2-A7F2-EE9D2723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D657-2379-4946-A4AB-D7A36010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EC31-0C75-4679-BF3F-00F9605A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B7C1-2E8F-43B2-9917-86D193F2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A671-36F3-4CA4-9232-3265936D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B681-B521-4140-90B7-E59D2868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1631-4D33-47D1-9369-B4B2DE77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F0D0-6306-443F-A757-E6779DC6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D7E8-AAB6-4007-82DB-F72A9235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540E-0B18-40A5-962B-8CACC907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7A35-3891-4C3E-8655-3945B528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1CD1-6FAE-4807-9F85-C9BEEF9D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97A5D-1EAC-4359-86D3-6261DE5B95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