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63490"/>
        <c:axId val="93168192"/>
      </c:barChart>
      <c:catAx>
        <c:axId val="49463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68192"/>
        <c:crosses val="autoZero"/>
        <c:auto val="1"/>
        <c:lblAlgn val="ctr"/>
        <c:lblOffset val="100"/>
        <c:noMultiLvlLbl val="0"/>
      </c:catAx>
      <c:valAx>
        <c:axId val="93168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63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208-922D-407F-979A-BD5D3C2D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D15-D2F3-421D-88BD-6672763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069-5457-41E4-8890-BD880D2A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3F3-80C6-42FC-87D5-8BF00943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C5A-55C0-4DA4-B656-15D24C5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90B-CA30-4168-B8B5-76B7BCD7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474-67A5-4C38-A1F1-93F73D9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920-FA27-434D-9F16-35CEBCD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F63-58C4-4100-8515-E42711C7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244-14C9-4D33-965F-AB0F4D5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385-7313-4D9D-9B97-67F4DA3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5EF-EBFF-4918-8C2A-0CC338B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6C5A-B371-4161-8005-BA304BF658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