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70757"/>
        <c:axId val="39919237"/>
      </c:barChart>
      <c:catAx>
        <c:axId val="21670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19237"/>
        <c:crosses val="autoZero"/>
        <c:auto val="1"/>
        <c:lblAlgn val="ctr"/>
        <c:lblOffset val="100"/>
        <c:noMultiLvlLbl val="0"/>
      </c:catAx>
      <c:valAx>
        <c:axId val="39919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70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49B-EF4C-4B90-82AB-113F495E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602-CA42-47AF-8984-FB8F683F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CF6-11FE-4858-AD65-D96FC5E1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FDA-6EA6-4A48-A507-A61824EB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50C-FD28-4762-99DC-656FA616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EC9-0A3A-4389-BC82-E41665D5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A98-A571-420F-8505-1412EDFA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840-9B28-488C-9C6B-BD11679A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BF0-B45E-4194-88AF-D1C6E4C5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13D-8CE3-49D8-8BC4-C2C2E2C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629-0809-4FAA-8C4A-2410DA76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D85-E2EE-4E8B-ABBF-0B03A80D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00084-0430-4CF5-954F-F032621D67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