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53985"/>
        <c:axId val="59405852"/>
      </c:barChart>
      <c:catAx>
        <c:axId val="95539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405852"/>
        <c:crosses val="autoZero"/>
        <c:auto val="1"/>
        <c:lblAlgn val="ctr"/>
        <c:lblOffset val="100"/>
        <c:noMultiLvlLbl val="0"/>
      </c:catAx>
      <c:valAx>
        <c:axId val="594058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539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B838-A8EC-43B7-A865-9444657EB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4038-6456-4B7B-A097-3E669299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DF20-8C85-48A5-B9DC-F77D734A5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070E-2EB0-4E9B-974E-2BE25BC95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4C85-CC7F-44B3-8044-5DD67596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4662-8BC6-487C-88BC-EF3149E0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0B5D-5E03-43C4-97DA-1943D589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CAB8-B323-4FCA-BE84-A75F1912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22F8-1FB6-4A6B-BFB1-A691B392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B074-974C-4C7F-AE4E-A7BFA687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D003-2F9D-4DE2-90C6-E2F25F92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53FC-BD1A-44B2-9BF2-6D500B5A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468664-1759-4140-A024-AC4BB14894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