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75806"/>
        <c:axId val="57737758"/>
      </c:barChart>
      <c:catAx>
        <c:axId val="55075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37758"/>
        <c:crosses val="autoZero"/>
        <c:auto val="1"/>
        <c:lblAlgn val="ctr"/>
        <c:lblOffset val="100"/>
        <c:noMultiLvlLbl val="0"/>
      </c:catAx>
      <c:valAx>
        <c:axId val="57737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75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699-0E58-41B8-B3D3-056FF106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951-2E1D-4C14-B619-D6EBED27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0C2-617B-4D4B-87E4-188E186F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B16-CC62-4BFF-99F2-7172DD11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B9F-0744-40D4-BDF4-7E063611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795-3345-42E5-8296-1BE4CF7F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45C-9F66-418A-95CF-0192EA26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AEF-E90D-412D-B74E-5560C8C9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FD7-75B9-4F99-8CD6-BDDFF747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C99-18EF-4E8D-8F34-ACCBD3E1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7A5B-90BF-493A-BEFB-BF1D1725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1DF-A7A2-47D2-A1F4-6F0718F2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E0D48-E1EA-4CDE-8DDB-E6F4C1E1B4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