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805862"/>
        <c:axId val="91451026"/>
      </c:barChart>
      <c:catAx>
        <c:axId val="598058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451026"/>
        <c:crosses val="autoZero"/>
        <c:auto val="1"/>
        <c:lblAlgn val="ctr"/>
        <c:lblOffset val="100"/>
        <c:noMultiLvlLbl val="0"/>
      </c:catAx>
      <c:valAx>
        <c:axId val="914510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8058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E8A4-CCDC-4B53-8489-4B930C08E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65D8-C96F-4A15-ACA2-9738FD864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B523-200B-4381-AC2F-1ABB36FA5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DD29-A96D-4191-84D4-D3433EBB2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EDA7-1A4F-4C79-B9FE-471F523B5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758B-704D-45EA-81E0-5A5615DC3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04DD-0156-440A-9EEC-F968CF08D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F9C8-7DD3-4E1F-9896-2B1BFB3B7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8FDF-184C-480F-BF77-E386B9D8D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A090-1B4D-40B0-BE46-F1D50B1C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B251-5AEF-41E4-BC7E-3EEA2952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1B7D-5783-41BC-9852-182C2A51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28085D-378B-4110-B64F-E13157B85EB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