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A2B3C-E7C0-4552-A2BB-7C6734FE6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1974A-269F-475D-A0C7-F26637652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D6A1A-F31E-4A54-AE24-4BB55C297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875AE-1C80-4DF5-B00C-AC8AFBD23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B19BD-8116-478B-99A4-CFD5FDE95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F569C-4ED7-4807-BC71-1F4A4C29C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D38C7-8EBE-442E-8299-C92B8C6ED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64062-4783-4085-A238-328C3E531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31535-6477-4202-9560-596B662FB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3295E-78FF-4DE3-BDEB-74783A5B9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49636-DC88-4755-AA78-7D240E827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AAA7B-17E7-4E86-AFF6-97158E71F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8026A8F-113D-4D51-99F5-AB42959E94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5560"/>
            <a:ext cx="1800" cy="2163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700280"/>
            <a:ext cx="1800" cy="65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120" cy="593280"/>
            <a:chOff x="2013120" y="1668600"/>
            <a:chExt cx="501120" cy="59328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59760" cy="518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560" cy="53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280" bIns="-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5560"/>
            <a:ext cx="1800" cy="2163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8480"/>
            <a:ext cx="1295640" cy="50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700280"/>
            <a:ext cx="1800" cy="65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120" cy="593280"/>
            <a:chOff x="6046920" y="1668600"/>
            <a:chExt cx="501120" cy="59328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59760" cy="518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560" cy="53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280" bIns="-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4600"/>
            <a:ext cx="406440" cy="357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 flipV="1">
            <a:off x="3492360" y="1050480"/>
            <a:ext cx="1800" cy="2019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2049120" y="3068640"/>
            <a:ext cx="144468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3492360" y="1915920"/>
            <a:ext cx="503280" cy="1153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995640" y="1916280"/>
            <a:ext cx="1800" cy="14666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rot="16974600">
            <a:off x="3647520" y="2325240"/>
            <a:ext cx="279720" cy="28908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81284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3038400" y="3381480"/>
            <a:ext cx="959040" cy="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983040" y="3075120"/>
            <a:ext cx="42696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479400" y="1601640"/>
            <a:ext cx="925560" cy="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992040" y="1601640"/>
            <a:ext cx="42732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4411800" y="1604520"/>
            <a:ext cx="1440" cy="14670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3052800" y="1902960"/>
            <a:ext cx="1440" cy="14670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3049560" y="1908000"/>
            <a:ext cx="959040" cy="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9560" y="1592280"/>
            <a:ext cx="42696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64204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09132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 flipV="1">
            <a:off x="3492360" y="1050480"/>
            <a:ext cx="1800" cy="2019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2049120" y="3068640"/>
            <a:ext cx="144468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21120000">
            <a:off x="291600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3492360" y="2274480"/>
            <a:ext cx="935280" cy="795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427640" y="2274480"/>
            <a:ext cx="1440" cy="144324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44924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4427640" y="1843200"/>
            <a:ext cx="504720" cy="43488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88484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701800" y="3933720"/>
            <a:ext cx="2311560" cy="1724400"/>
            <a:chOff x="2701800" y="3933720"/>
            <a:chExt cx="2311560" cy="1724400"/>
          </a:xfrm>
        </p:grpSpPr>
        <p:sp>
          <p:nvSpPr>
            <p:cNvPr id="109" name=""/>
            <p:cNvSpPr/>
            <p:nvPr/>
          </p:nvSpPr>
          <p:spPr>
            <a:xfrm flipV="1">
              <a:off x="3521880" y="4034880"/>
              <a:ext cx="1440" cy="976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521880" y="5010120"/>
              <a:ext cx="12164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013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701800" y="52898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2821680" y="5010120"/>
              <a:ext cx="699480" cy="497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718160" y="49075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4900680" y="2119320"/>
            <a:ext cx="1830240" cy="1309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3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599000" y="2923560"/>
              <a:ext cx="2014560" cy="1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60628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1270080" y="3933720"/>
            <a:ext cx="2311200" cy="1724400"/>
            <a:chOff x="1270080" y="3933720"/>
            <a:chExt cx="2311200" cy="1724400"/>
          </a:xfrm>
        </p:grpSpPr>
        <p:sp>
          <p:nvSpPr>
            <p:cNvPr id="134" name=""/>
            <p:cNvSpPr/>
            <p:nvPr/>
          </p:nvSpPr>
          <p:spPr>
            <a:xfrm flipV="1">
              <a:off x="2088360" y="4034880"/>
              <a:ext cx="1440" cy="976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088360" y="5010120"/>
              <a:ext cx="12164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0692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270080" y="52898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>
              <a:off x="1389960" y="5010120"/>
              <a:ext cx="699480" cy="497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286080" y="49075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3468600" y="2119320"/>
            <a:ext cx="1830600" cy="1309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4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166920" y="2923560"/>
              <a:ext cx="2014560" cy="1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174200" y="2276640"/>
              <a:ext cx="108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127080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6458040" y="2119320"/>
            <a:ext cx="1830240" cy="1309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6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156360" y="2923560"/>
              <a:ext cx="2014560" cy="1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163640" y="2276640"/>
              <a:ext cx="108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21116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H="1" flipV="1">
            <a:off x="6567120" y="3529080"/>
            <a:ext cx="663480" cy="61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H="1" flipV="1">
            <a:off x="4929120" y="4176720"/>
            <a:ext cx="44784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