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A02C5-97BA-410E-9054-A533E466C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25246-867A-4E90-9FBB-49C2A26E6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D2FA2-5A95-4165-9E7A-C1FC9B15F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6B22A-49CF-4087-971F-2DD09A61F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DBC97-BF73-4065-AA87-0AF026E22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D978C-9815-4F0E-840B-2DCC5E22E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96BB3-373A-40B4-9D87-717DE541D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93930-D2E9-4059-9D7D-10B867ED5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D9E1D-28D6-41BC-BC07-844D46FC1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9A8E0-0616-469C-8311-38E8DEE8F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DD14C-2939-4B31-9094-6BBC59F04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5CB00-54E7-4CF4-A9EF-2629FFB80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877D7-1172-46A3-BFD2-150968C2B1B8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flowChartPrepa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p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flowChartManualIn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flowChartManualOpe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flowChartOffpage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ff-page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flowChartPunchedCar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lowChartPunched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unched 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umming J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flowChar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flowChartCollat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l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Alternat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flowChartSor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flowChartExtra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Ex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flowChartMer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e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tore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prstGeom prst="flowChartMagnetic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equential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gnetic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rect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defined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flowChartInternal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Internal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ulti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Termin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03:09Z</dcterms:created>
  <dc:creator>tb121644</dc:creator>
  <dc:description/>
  <dc:language>en-US</dc:language>
  <cp:lastModifiedBy>tb121644</cp:lastModifiedBy>
  <dcterms:modified xsi:type="dcterms:W3CDTF">2005-05-25T11:15:34Z</dcterms:modified>
  <cp:revision>2</cp:revision>
  <dc:subject/>
  <dc:title>Slide 1</dc:title>
</cp:coreProperties>
</file>