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71B0-60B8-4441-9258-5A1B4F736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92B2-6285-404A-B69B-675F6111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A6807-4618-4B15-9653-C6C376CC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CB81F-547F-4E6B-A888-40426301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AFF18-4DA8-419F-8365-42F55D80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26889-871F-4AC1-A331-0A8F90CB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266B51-1B9A-47F4-8716-9E3E9095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589305-FB48-42E4-93A6-A0D6F2B2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513AA-1835-4A60-9EA3-FDFEFB15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0D6C8-00FD-4134-881D-873E90825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847EF-B227-4F85-B3AA-710AA847B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37A9A4-38FD-4173-A46C-730408ABA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BC97-75D3-40A0-99F2-53510948D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1FF0AF-D7DD-41C0-B42A-1FB8E2AB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2A0FC9-7DBE-4CE0-AFDC-E8617E84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FC5247-1664-4736-A831-B77706D7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EAFF15-BE4E-4D3B-B6DA-96EE2DFB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C90BC8-E3B8-4F08-9AB4-FB7A9409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F2E235-F3FE-464F-BE84-5B0A112B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25ED4D-7423-4B77-88D2-D21EB699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FB263D-F4F6-4060-A54F-788CF01B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DB8410-093E-4AEE-95A5-4100D384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E60344-3D46-482A-842B-F99BF5D88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3E83-346B-4537-A671-D9CF7D952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643028-3E48-4361-9F62-CFB414645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42251-5FDD-4EFC-A5CF-748EF5817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59B6A-2525-49F8-AF1E-016EC1C7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B8CF4-C330-4A67-84B0-BD8989A7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BF136-3047-45AC-B0FA-225FF8AE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B3E47-6BAB-462A-B14F-C8CAC3AD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FCC88-A498-4DB5-8ECE-0CCF0E02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08B40-39D8-428D-A27A-15239B6F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0D206-B407-4718-9018-2D42CBA3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8CAA5-526F-4A53-B5F5-402CB58E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3D82-02D5-41EA-A5E4-35C1BA21B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60A84-1851-43F5-B010-0DDA49E2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E53F4-0CD7-4D51-85A6-60DDF751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A7B51-3BF4-4853-9DED-F8478EDC4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DB4B77-741B-4C07-8491-CF2737C5C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60383B-D08A-4A1C-ABF8-E6626606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F282DF-C1E8-4E9F-AF33-FB46E18A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7C9861-FBA1-46E5-979D-0A2CE46A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3CAC40-354B-4159-9BBA-61A9C309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3AF933-7805-4232-AA9D-67967E18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803BED-3535-4EC8-8649-503E324F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5834-492A-4C30-861F-8C09C63D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D8FFDA-4406-45EB-B2CB-CBD98C4E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C457CE-7B93-411A-8165-7C892980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0F2189-511C-4B3B-B076-B7CFF976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E98D0A-E459-4EC2-8558-629728D79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033893-E0BC-4FC6-8451-E55EA32CC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3261-DB11-4432-A357-46CF2AFA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1606-B362-4DC6-BE21-EB528D8B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C8BD-FBC7-45D5-90C8-5E99B1B5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619E-5257-46D7-AA4B-8A598A64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1EE1-CC42-43B4-B097-31506417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9A70-5919-4555-B2E4-2CD5690E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272C-4F4E-4A6E-BFC4-4C4EE7AE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BF23-F5D7-421D-80D4-DAD828A5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8A4C-8193-4B44-AB6D-CE2F1489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6846-8EAA-4D0B-87FC-77C4E9C8C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DD6E-95EE-4488-ACE1-F381CF711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90B3E-365C-408F-BC61-C4997DF62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1A595-879D-44A9-AB21-C2C32C23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FC5B8-D60B-4B9B-A498-5192DD20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B1EFA-336E-4076-AAA4-6763DF69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74DF3-F2E9-4573-87F2-984C402F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7A55-DBBC-4034-8FCA-B5208F34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4C302-F662-4EF0-8191-63F25D84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DC5A3-E419-4ACE-9371-C2D8273B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30AC9-80F9-4D81-9238-FA3E060A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3F22C-B094-4564-A49A-D50F5A06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E2B0C-344B-484C-A3DB-CD9E5429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E60F6-0D92-4A5E-84E1-F44007F2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020AA-0EA6-4970-B116-81A773849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058D6-DD7D-4878-9873-F0896D746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78FB8-E16A-4AF2-9378-57D33F89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4AFA5-EE75-44C6-A79F-2C272005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854F-B2CC-4B70-883A-98CDAD52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4DD87-16D3-46F0-9189-72B54801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C2C3D-18C9-4CDB-93E5-CE4AF2C4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A01CE-D000-4440-827F-5DFF9478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EEF7B-25B0-44AC-B732-A47FCE22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CAB4C-CDF3-499A-9315-2892F877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C1CCB-D23A-4A2D-94AB-95F17316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D8C87-A264-4700-B9E8-449C181B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DD694-326C-4F38-A5E9-724ED79E1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71153-FCDA-4FCB-9267-46C2B5352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8AE05F-8311-46B0-8A76-715500F48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A758-4EFF-4064-8739-68A23763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48AC8C-45B8-46A9-88FF-3CF1D095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752774-E549-4C14-AC82-5774C5CA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6EEB50-09DD-43F2-861F-06AE0878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E9D093-BDDD-4900-871A-4BE25121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AF691F-4A96-486D-8074-92227528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20AAE6-6599-49F0-8607-D3AD8952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667950-CDC3-458F-AEB1-E61178B5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5253CA-1DEE-4F9A-9BD2-D48FFC02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1F456F-4E7C-414B-A20F-994465FF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84D3D9-0CC8-4A0C-90AC-1110EF30F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3AD7-D53D-4E50-8DED-7E97A82F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6EE314-2277-4BCB-912E-92605C969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09950-0396-401F-98CF-283704914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9C77A-819A-429C-B273-8A0A9E5D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A1137-D887-4B95-ACFE-8016B8C1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38FA2-6E13-4F28-ADC8-547492DC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A4C69-1CDF-414E-AD1C-3142048D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45352-418E-4A50-BD0A-6C38E081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24E47-0EB0-4B42-8613-BBC22370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08275-B37D-44B3-B35B-BA338C42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E124F-A8C2-4906-BADF-2F1EDCD7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2C9A-D653-4A4B-BC75-04F83504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C1905-E09F-4093-B326-8C5E8C24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51D2E-8F2D-49B8-83EB-5DFF517FE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24EC4-3728-4F06-9F0A-093E6FFA5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055A9-3501-4537-AE6D-D6B0A8478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B3FD7-561C-4180-8BDD-545BCE40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9440B-6CF0-46BB-861D-0265C32A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B8245-EBBF-4C3C-9270-FE34B420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415BD-4834-4D7F-A077-6A4327FE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4DFB1-3CD4-4677-B5A4-FCAA5267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6FA04-913A-4C07-AFD1-2A2E82CD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B5A0-7661-4A14-AB99-9CD763E9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3F515-186A-45DF-85F6-C7A7C623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E0E9E-23B7-4999-A015-BC919072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533C1-06F6-411A-BDE9-1A191FCD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4BABC-E95F-4E91-9D0B-B2E03ECF0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13196-58CB-48EF-84DD-62487779F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A39D7-3613-488D-932F-7A05EA84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9FB8C-45D7-42F2-A44D-A9C59F6A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4DE37-8455-45C4-BDB1-5DDF5EC6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93D7A-A8EB-4F5E-804F-F78CFFD9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90BF6-797F-4E49-BA80-342997F4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E758-8334-4965-91A6-D718A46C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BBB23-408C-494A-9770-AF6F5B40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34A86-12B6-4F03-8F51-C2D7CD49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73672-3485-4A39-8E2F-F8EE86F6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E4F6F-C0ED-4174-86E4-7970C59E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D6C88-E4C0-4211-966F-9358E578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7F003-4B20-4F48-A9F1-2E7FDE00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600B8-7B58-4E20-A505-5F95A5B9E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031191-281F-4C69-A4F2-5CBB8434E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28792-8D16-45C0-B234-6A99004F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C8C7D-4BF0-480A-9875-DAC41FF2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12D8-FB34-4F3B-A498-09915215E32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4178-6A51-4912-AEC0-ADC5ED4966F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4F59-E2D1-4B88-9682-63F1ADC2896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76F1-203F-4CBA-BF38-1AFBD2EBB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B384-1067-4C76-8A02-5C82B02D3AC7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844F-B02A-4CA6-898A-0057EB8D9FA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105A-AF91-4D62-80D1-57A69E7D8A97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54F4-330C-46B9-93A8-6FBEE4DC4EA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B1DB-B4AB-4EF9-BF85-95C43CFAA55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CD03-963A-4137-B855-EE571C013CC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2847-34CE-44C4-928B-D8DE42DAA9A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72DE-379B-437E-B6F6-946911F8A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940A-5E9B-4467-8F11-D798C411865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28C2-C4B3-4BBE-9354-6F6C01ACA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701F-E371-430A-8EE9-85AC4ADF41A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4E64-E313-4C70-A126-78FE4D135AF1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5927-C53E-43BC-9960-48EDBB85F007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2B5F-8B9C-4E01-8D31-A208E1B9DE4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39A8-2DE5-428B-97B9-FEDC6CD6158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7CF2-101A-4BAC-AFEC-F6EEFB7ABC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3942-6789-4AE6-B2EE-D92049A488B1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93A1-8746-47F3-BDF7-A247FBAECEA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49FA-801B-4DC5-9E7F-5B68A82481B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2062-3C51-4C98-BAA6-5DBCBBA43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58A6-4E77-4736-A561-74D5ED048E2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4852B1-E0F0-42F3-8C3E-058CB3E036D2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F5717-F21A-4E85-A9C5-CC4D4F84493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DDE883D4-988D-4A3A-995E-02B90C08EE7A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5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ox(out)" transition="out">
                                      <p:cBhvr additive="repl">
                                        <p:cTn id="118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716DD-ABE2-4A52-8F0F-B9927E5F5F24}" type="slidenum">
              <a:t>3</a:t>
            </a:fld>
          </a:p>
        </p:txBody>
      </p:sp>
    </p:spTree>
  </p:cSld>
  <p:transition>
    <p:comb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9C115F-A85E-4EA8-B469-FDE42725689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746E8CEB-BF06-4AF3-B1F3-B7CD1A591A39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B7DF1-52AD-4CDB-ACDE-2C1579C23C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EB186C5A-AFAA-49B3-8AE6-6E5D628A596E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900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E3719-D723-49E9-8B54-6248D7C1BF8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3D1C95B0-4D09-44D5-9BB1-5CD4847184F2}" type="datetime1">
              <a:rPr lang="en-US"/>
              <a:t>07/31/26</a:t>
            </a:fld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