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00833"/>
        <c:axId val="41073703"/>
      </c:barChart>
      <c:catAx>
        <c:axId val="54700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73703"/>
        <c:crosses val="autoZero"/>
        <c:auto val="1"/>
        <c:lblAlgn val="ctr"/>
        <c:lblOffset val="100"/>
        <c:noMultiLvlLbl val="0"/>
      </c:catAx>
      <c:valAx>
        <c:axId val="41073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00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CE2-81E3-4B84-A42D-8E4941E5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D28-7DC5-4DD4-97AD-4614253E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E34-F1F1-4A31-BE9C-1BAF93E7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61D-9402-40DA-828F-7C856FC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769-89AB-4FAF-8530-4084A1CA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32B-B2B1-45E8-8CE7-CBD7A98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F9F-5188-4FF8-907A-5E2E53C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35D-4F08-41A6-A800-F90B34F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4E3-DD89-43FC-A77D-3576A667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57C-A702-4815-A191-CC286FF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5EB-CE3B-4AD1-B208-8255851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3C-2E93-4684-B16F-1A1114C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EC440-C88C-4D4B-929C-819ED6899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